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0.gif" ContentType="image/gif"/>
  <Override PartName="/ppt/media/image8.wmf" ContentType="image/x-wmf"/>
  <Override PartName="/ppt/media/image7.jpeg" ContentType="image/jpeg"/>
  <Override PartName="/ppt/media/image18.png" ContentType="image/png"/>
  <Override PartName="/ppt/media/image6.wmf" ContentType="image/x-wmf"/>
  <Override PartName="/ppt/media/image9.png" ContentType="image/png"/>
  <Override PartName="/ppt/media/image5.gif" ContentType="image/gif"/>
  <Override PartName="/ppt/media/image11.jpeg" ContentType="image/jpeg"/>
  <Override PartName="/ppt/media/image4.gif" ContentType="image/gif"/>
  <Override PartName="/ppt/media/image1.jpeg" ContentType="image/jpeg"/>
  <Override PartName="/ppt/media/image23.jpeg" ContentType="image/jpe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5.jpeg" ContentType="image/jpeg"/>
  <Override PartName="/ppt/media/image2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36D-F392-4521-96B8-5C05AB02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5651-3547-4D2D-8FEF-101ADB45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928-A33B-4F81-B5DD-318D5B3C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EEC-ADF7-4688-9AAB-EEAAA0AC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F843-4546-4EF1-81E4-3BF97BC7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CE1B-97A8-45DF-A5F5-ED562BA3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A44-A155-4108-8459-33B0AA8E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BEB-A077-429C-9347-CE0F0462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48F8-7AD1-4D10-AB18-F264EA6E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61B-2DFD-4454-AD5A-318477F3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0CEC-3CA9-4869-8A7B-DC08A3FD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8CBA-B17D-46E3-8B74-4E069C37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FDFA-1189-44B2-81AF-66C956DE07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1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image" Target="../media/image5.gi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ccharometer.jpg" TargetMode="External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Germain.jpe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3059280" y="620640"/>
            <a:ext cx="561816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Женщины - 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атематики"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2" name="Picture 7" descr="i?id=83817865&amp;tov=5"/>
          <p:cNvPicPr/>
          <p:nvPr/>
        </p:nvPicPr>
        <p:blipFill>
          <a:blip r:embed="rId5"/>
          <a:stretch/>
        </p:blipFill>
        <p:spPr>
          <a:xfrm>
            <a:off x="539640" y="1844640"/>
            <a:ext cx="1898640" cy="2665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star16"/>
          <p:cNvPicPr/>
          <p:nvPr/>
        </p:nvPicPr>
        <p:blipFill>
          <a:blip r:embed="rId6"/>
          <a:stretch/>
        </p:blipFill>
        <p:spPr>
          <a:xfrm>
            <a:off x="0" y="1197000"/>
            <a:ext cx="3052800" cy="4537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635280" y="4437000"/>
            <a:ext cx="468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втор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Леонтьева Гали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ченица 8 класса МОУ основной общеобразовательной школы с. Пуш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Руководитель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офьина Елена Викторовна, учитель математики и информатики МОУ основной общеобразовательной школы с. Пуш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95280" y="1890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ект на тему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Germain1"/>
          <p:cNvPicPr/>
          <p:nvPr/>
        </p:nvPicPr>
        <p:blipFill>
          <a:blip r:embed="rId1"/>
          <a:stretch/>
        </p:blipFill>
        <p:spPr>
          <a:xfrm>
            <a:off x="3635280" y="0"/>
            <a:ext cx="4572000" cy="43815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1403280" y="4467960"/>
            <a:ext cx="7345440" cy="2284200"/>
          </a:xfrm>
          <a:prstGeom prst="rect">
            <a:avLst/>
          </a:prstGeom>
          <a:gradFill rotWithShape="0">
            <a:gsLst>
              <a:gs pos="0">
                <a:srgbClr val="9900ff">
                  <a:alpha val="44313"/>
                </a:srgbClr>
              </a:gs>
              <a:gs pos="100000">
                <a:srgbClr val="ff00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онятие кривизны лежало в основе работы Софи Жермен по теории упругости. В любой точке кривую можно аппроксимировать окружностью с той же касательной, что и у кривой в данной точке. Кривизна обратно пропорциональна радиусу окружности. Для поверхности кривизна в точке определяется кривизной кривых, образованных пересечениями поверхности с плоскостями, перпендикулярными поверхности в этой точке. Из всех таких кривых выбирается наибольшая и наименьшая кривизна, которые называются главными величинами кривиз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i?id=192264035&amp;tov=6"/>
          <p:cNvPicPr/>
          <p:nvPr/>
        </p:nvPicPr>
        <p:blipFill>
          <a:blip r:embed="rId2"/>
          <a:stretch/>
        </p:blipFill>
        <p:spPr>
          <a:xfrm>
            <a:off x="396720" y="0"/>
            <a:ext cx="2651400" cy="854712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14"/>
          <p:cNvGrpSpPr/>
          <p:nvPr/>
        </p:nvGrpSpPr>
        <p:grpSpPr>
          <a:xfrm>
            <a:off x="0" y="5824440"/>
            <a:ext cx="1547280" cy="1033560"/>
            <a:chOff x="0" y="5824440"/>
            <a:chExt cx="1547280" cy="1033560"/>
          </a:xfrm>
        </p:grpSpPr>
        <p:grpSp>
          <p:nvGrpSpPr>
            <p:cNvPr id="116" name="Group 15"/>
            <p:cNvGrpSpPr/>
            <p:nvPr/>
          </p:nvGrpSpPr>
          <p:grpSpPr>
            <a:xfrm>
              <a:off x="0" y="5824440"/>
              <a:ext cx="1547280" cy="1033560"/>
              <a:chOff x="0" y="5824440"/>
              <a:chExt cx="1547280" cy="1033560"/>
            </a:xfrm>
          </p:grpSpPr>
          <p:sp>
            <p:nvSpPr>
              <p:cNvPr id="117" name="AutoShape 16"/>
              <p:cNvSpPr/>
              <p:nvPr/>
            </p:nvSpPr>
            <p:spPr>
              <a:xfrm>
                <a:off x="1080" y="5824440"/>
                <a:ext cx="1546200" cy="103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Group 17"/>
              <p:cNvGrpSpPr/>
              <p:nvPr/>
            </p:nvGrpSpPr>
            <p:grpSpPr>
              <a:xfrm>
                <a:off x="0" y="5910120"/>
                <a:ext cx="616320" cy="942120"/>
                <a:chOff x="0" y="5910120"/>
                <a:chExt cx="616320" cy="942120"/>
              </a:xfrm>
            </p:grpSpPr>
            <p:sp>
              <p:nvSpPr>
                <p:cNvPr id="119" name="Freeform 18"/>
                <p:cNvSpPr/>
                <p:nvPr/>
              </p:nvSpPr>
              <p:spPr>
                <a:xfrm>
                  <a:off x="65520" y="6178320"/>
                  <a:ext cx="207720" cy="34308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19"/>
                <p:cNvSpPr/>
                <p:nvPr/>
              </p:nvSpPr>
              <p:spPr>
                <a:xfrm>
                  <a:off x="0" y="5977800"/>
                  <a:ext cx="237960" cy="18288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20"/>
                <p:cNvSpPr/>
                <p:nvPr/>
              </p:nvSpPr>
              <p:spPr>
                <a:xfrm>
                  <a:off x="148680" y="5910120"/>
                  <a:ext cx="467640" cy="31752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21"/>
                <p:cNvSpPr/>
                <p:nvPr/>
              </p:nvSpPr>
              <p:spPr>
                <a:xfrm>
                  <a:off x="95040" y="6204960"/>
                  <a:ext cx="464040" cy="33588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22"/>
                <p:cNvSpPr/>
                <p:nvPr/>
              </p:nvSpPr>
              <p:spPr>
                <a:xfrm>
                  <a:off x="40320" y="6446520"/>
                  <a:ext cx="130680" cy="40572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23"/>
                <p:cNvSpPr/>
                <p:nvPr/>
              </p:nvSpPr>
              <p:spPr>
                <a:xfrm>
                  <a:off x="147600" y="6451920"/>
                  <a:ext cx="218520" cy="35280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Group 24"/>
              <p:cNvGrpSpPr/>
              <p:nvPr/>
            </p:nvGrpSpPr>
            <p:grpSpPr>
              <a:xfrm>
                <a:off x="487800" y="5825160"/>
                <a:ext cx="1053000" cy="877320"/>
                <a:chOff x="487800" y="5825160"/>
                <a:chExt cx="1053000" cy="877320"/>
              </a:xfrm>
            </p:grpSpPr>
            <p:sp>
              <p:nvSpPr>
                <p:cNvPr id="126" name="Freeform 25"/>
                <p:cNvSpPr/>
                <p:nvPr/>
              </p:nvSpPr>
              <p:spPr>
                <a:xfrm>
                  <a:off x="496080" y="5833440"/>
                  <a:ext cx="1033200" cy="857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cc66"/>
                    </a:gs>
                    <a:gs pos="50000">
                      <a:srgbClr val="99cc00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" name="Group 26"/>
                <p:cNvGrpSpPr/>
                <p:nvPr/>
              </p:nvGrpSpPr>
              <p:grpSpPr>
                <a:xfrm>
                  <a:off x="487800" y="5825160"/>
                  <a:ext cx="1053000" cy="877320"/>
                  <a:chOff x="487800" y="5825160"/>
                  <a:chExt cx="1053000" cy="877320"/>
                </a:xfrm>
              </p:grpSpPr>
              <p:sp>
                <p:nvSpPr>
                  <p:cNvPr id="128" name="Freeform 27"/>
                  <p:cNvSpPr/>
                  <p:nvPr/>
                </p:nvSpPr>
                <p:spPr>
                  <a:xfrm>
                    <a:off x="487800" y="6384960"/>
                    <a:ext cx="1006920" cy="3175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28"/>
                  <p:cNvSpPr/>
                  <p:nvPr/>
                </p:nvSpPr>
                <p:spPr>
                  <a:xfrm>
                    <a:off x="535320" y="5825160"/>
                    <a:ext cx="1005480" cy="8719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Freeform 29"/>
                  <p:cNvSpPr/>
                  <p:nvPr/>
                </p:nvSpPr>
                <p:spPr>
                  <a:xfrm>
                    <a:off x="527040" y="5948640"/>
                    <a:ext cx="53280" cy="4755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1" name="Text Box 30"/>
            <p:cNvSpPr/>
            <p:nvPr/>
          </p:nvSpPr>
          <p:spPr>
            <a:xfrm>
              <a:off x="537120" y="5950080"/>
              <a:ext cx="100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9999"/>
                  </a:solidFill>
                  <a:uFillTx/>
                  <a:latin typeface="Times New Roman"/>
                  <a:hlinkClick r:id="rId3" action="ppaction://hlinksldjump"/>
                </a:rPr>
                <a:t>СОД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9999"/>
                  </a:solidFill>
                  <a:uFillTx/>
                  <a:latin typeface="Times New Roman"/>
                  <a:hlinkClick r:id="rId4" action="ppaction://hlinksldjump"/>
                </a:rPr>
                <a:t>Ж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Управляющая кнопка: домой 21">
            <a:hlinkClick r:id="rId5" action="ppaction://hlinksldjump"/>
          </p:cNvPr>
          <p:cNvSpPr/>
          <p:nvPr/>
        </p:nvSpPr>
        <p:spPr>
          <a:xfrm>
            <a:off x="8715240" y="62150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kovalevskaya"/>
          <p:cNvPicPr/>
          <p:nvPr/>
        </p:nvPicPr>
        <p:blipFill>
          <a:blip r:embed="rId1"/>
          <a:stretch/>
        </p:blipFill>
        <p:spPr>
          <a:xfrm>
            <a:off x="23760" y="542880"/>
            <a:ext cx="3292560" cy="51325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3924360" y="632880"/>
            <a:ext cx="5219640" cy="6129000"/>
          </a:xfrm>
          <a:prstGeom prst="rect">
            <a:avLst/>
          </a:prstGeom>
          <a:gradFill rotWithShape="0">
            <a:gsLst>
              <a:gs pos="0">
                <a:srgbClr val="9900ff">
                  <a:alpha val="44313"/>
                </a:srgbClr>
              </a:gs>
              <a:gs pos="100000">
                <a:srgbClr val="ff00ff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офья Васильевна Ковалевская – выдающийся русский математик; первая в мире женщина – профессор и член – корреспондент Петербургской академии на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тец Софьи Ковалевской – Василий Васильевич Корвин – Круковский был генерал-лейтенантом артиллерии; мать – Елизавета Федоровна – внучка известного астронома академика Ф.Ф.Шуберта. Детство свое Софья Ковалевская провела в селе Палибино, Витебской губернии, в имении своего отца. Приехав в Берлин, Софья Ковалевская спешит послушать лекции всемирно известного математика, профессора Берлинского университета Карла Вейерштра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трастное ее желание вернуться на родину и работать на пользу русской науки не было поддержано царским правительством. Ей дали понять, что в женщинах-профессорах царская Россия не нужд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i?id=31181130&amp;tov=5"/>
          <p:cNvPicPr/>
          <p:nvPr/>
        </p:nvPicPr>
        <p:blipFill>
          <a:blip r:embed="rId2"/>
          <a:stretch/>
        </p:blipFill>
        <p:spPr>
          <a:xfrm>
            <a:off x="1809720" y="3402000"/>
            <a:ext cx="2255760" cy="2992320"/>
          </a:xfrm>
          <a:prstGeom prst="rect">
            <a:avLst/>
          </a:prstGeom>
          <a:ln w="0">
            <a:noFill/>
          </a:ln>
        </p:spPr>
      </p:pic>
      <p:sp>
        <p:nvSpPr>
          <p:cNvPr id="136" name="WordArt 8"/>
          <p:cNvSpPr txBox="1"/>
          <p:nvPr/>
        </p:nvSpPr>
        <p:spPr>
          <a:xfrm>
            <a:off x="1403280" y="115920"/>
            <a:ext cx="727236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фья Васильевна Ковалевская ( 1850 – 1891 гг.) </a:t>
            </a:r>
            <a:endParaRPr b="1" i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611280" y="767160"/>
            <a:ext cx="4249800" cy="5306040"/>
          </a:xfrm>
          <a:prstGeom prst="rect">
            <a:avLst/>
          </a:prstGeom>
          <a:gradFill rotWithShape="0">
            <a:gsLst>
              <a:gs pos="0">
                <a:srgbClr val="9900ff">
                  <a:alpha val="44313"/>
                </a:srgbClr>
              </a:gs>
              <a:gs pos="100000">
                <a:srgbClr val="ff00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теряв всякую надежду получить кафедру на родине, Ковалевская в 1883 году по предложению видного шведского ученого-математика профессора Миттаг-Леффлера заняла должность приват-доцента в Стокгольмском университете. В Швеции Софья Ковалевская не только читает лекции, но и ведет научную работу и занимается литерату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 1889 году Ковалевской была присуждена еще одна премия, на этот раз Шведской академией наук, за вторую работу о вращении твердого тела. 10 февраля 1891 года на 42-м году жизни в расцвете своих  творческих сил Софья Ковалевская скончалась от воспаления легк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i?id=124785273&amp;tov=8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364000" y="1341360"/>
            <a:ext cx="307980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3419640" y="1485720"/>
            <a:ext cx="5580000" cy="4483080"/>
          </a:xfrm>
          <a:prstGeom prst="rect">
            <a:avLst/>
          </a:prstGeom>
          <a:gradFill rotWithShape="0">
            <a:gsLst>
              <a:gs pos="0">
                <a:srgbClr val="9900ff">
                  <a:alpha val="44313"/>
                </a:srgbClr>
              </a:gs>
              <a:gs pos="100000">
                <a:srgbClr val="ff00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 июле 1874г. на основании трех работ Ковалевской, Гёттингенский университет заочно присвоил ей степень доктора философ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"К теории уравнений в частных производных" (1874г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"Дополнения и замечания к исследованию Далласа о форме кольца Сатурна" (1885г.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"О приведении одного класса абелевых интегралов третьего ранга к интегралам эллиптическим" (1884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 аналитической теории дифференциальных уравнений с частными производными  одна из теорем называется теоремой Коши-Ковалевс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 1888г. Ковалевская написала работу "Задача о вращении твердого тела вокруг неподвижной точки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1763640" y="476280"/>
            <a:ext cx="5391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стижения в математик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Рисунок 4" descr="mhtml:file://J:\ПРОЕКТ%20ЛЕОНТ%20ГАЛЯ\Мезникова%20ЕА,%20Степанова%20ЛА%20О%20точных%20решениях%20задачи%20о%20вращении%20твёрдого%20тела%20вокруг%20неподвижной%20точки.mht!http://www.masters.donntu.edu.ua/2009/fema/meznikova/library/1.gif"/>
          <p:cNvPicPr/>
          <p:nvPr/>
        </p:nvPicPr>
        <p:blipFill>
          <a:blip r:embed="rId3"/>
          <a:stretch/>
        </p:blipFill>
        <p:spPr>
          <a:xfrm>
            <a:off x="179280" y="1700280"/>
            <a:ext cx="3024360" cy="28828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482400" y="4724280"/>
            <a:ext cx="242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"Задача о вращ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вердого тела во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еподвижной точки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4"/>
          <p:cNvGrpSpPr/>
          <p:nvPr/>
        </p:nvGrpSpPr>
        <p:grpSpPr>
          <a:xfrm>
            <a:off x="0" y="5824440"/>
            <a:ext cx="1547280" cy="1033560"/>
            <a:chOff x="0" y="5824440"/>
            <a:chExt cx="1547280" cy="1033560"/>
          </a:xfrm>
        </p:grpSpPr>
        <p:grpSp>
          <p:nvGrpSpPr>
            <p:cNvPr id="144" name="Group 15"/>
            <p:cNvGrpSpPr/>
            <p:nvPr/>
          </p:nvGrpSpPr>
          <p:grpSpPr>
            <a:xfrm>
              <a:off x="0" y="5824440"/>
              <a:ext cx="1547280" cy="1033560"/>
              <a:chOff x="0" y="5824440"/>
              <a:chExt cx="1547280" cy="1033560"/>
            </a:xfrm>
          </p:grpSpPr>
          <p:sp>
            <p:nvSpPr>
              <p:cNvPr id="145" name="AutoShape 16"/>
              <p:cNvSpPr/>
              <p:nvPr/>
            </p:nvSpPr>
            <p:spPr>
              <a:xfrm>
                <a:off x="1080" y="5824440"/>
                <a:ext cx="1546200" cy="103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Group 17"/>
              <p:cNvGrpSpPr/>
              <p:nvPr/>
            </p:nvGrpSpPr>
            <p:grpSpPr>
              <a:xfrm>
                <a:off x="0" y="5910120"/>
                <a:ext cx="616320" cy="942120"/>
                <a:chOff x="0" y="5910120"/>
                <a:chExt cx="616320" cy="942120"/>
              </a:xfrm>
            </p:grpSpPr>
            <p:sp>
              <p:nvSpPr>
                <p:cNvPr id="147" name="Freeform 18"/>
                <p:cNvSpPr/>
                <p:nvPr/>
              </p:nvSpPr>
              <p:spPr>
                <a:xfrm>
                  <a:off x="65520" y="6178320"/>
                  <a:ext cx="207720" cy="34308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19"/>
                <p:cNvSpPr/>
                <p:nvPr/>
              </p:nvSpPr>
              <p:spPr>
                <a:xfrm>
                  <a:off x="0" y="5977800"/>
                  <a:ext cx="237960" cy="18288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20"/>
                <p:cNvSpPr/>
                <p:nvPr/>
              </p:nvSpPr>
              <p:spPr>
                <a:xfrm>
                  <a:off x="148680" y="5910120"/>
                  <a:ext cx="467640" cy="31752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21"/>
                <p:cNvSpPr/>
                <p:nvPr/>
              </p:nvSpPr>
              <p:spPr>
                <a:xfrm>
                  <a:off x="95040" y="6204960"/>
                  <a:ext cx="464040" cy="33588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22"/>
                <p:cNvSpPr/>
                <p:nvPr/>
              </p:nvSpPr>
              <p:spPr>
                <a:xfrm>
                  <a:off x="40320" y="6446520"/>
                  <a:ext cx="130680" cy="40572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23"/>
                <p:cNvSpPr/>
                <p:nvPr/>
              </p:nvSpPr>
              <p:spPr>
                <a:xfrm>
                  <a:off x="147600" y="6451920"/>
                  <a:ext cx="218520" cy="35280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24"/>
              <p:cNvGrpSpPr/>
              <p:nvPr/>
            </p:nvGrpSpPr>
            <p:grpSpPr>
              <a:xfrm>
                <a:off x="487800" y="5825160"/>
                <a:ext cx="1053000" cy="877320"/>
                <a:chOff x="487800" y="5825160"/>
                <a:chExt cx="1053000" cy="877320"/>
              </a:xfrm>
            </p:grpSpPr>
            <p:sp>
              <p:nvSpPr>
                <p:cNvPr id="154" name="Freeform 25"/>
                <p:cNvSpPr/>
                <p:nvPr/>
              </p:nvSpPr>
              <p:spPr>
                <a:xfrm>
                  <a:off x="496080" y="5833440"/>
                  <a:ext cx="1033200" cy="857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cc66"/>
                    </a:gs>
                    <a:gs pos="50000">
                      <a:srgbClr val="99cc00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" name="Group 26"/>
                <p:cNvGrpSpPr/>
                <p:nvPr/>
              </p:nvGrpSpPr>
              <p:grpSpPr>
                <a:xfrm>
                  <a:off x="487800" y="5825160"/>
                  <a:ext cx="1053000" cy="877320"/>
                  <a:chOff x="487800" y="5825160"/>
                  <a:chExt cx="1053000" cy="877320"/>
                </a:xfrm>
              </p:grpSpPr>
              <p:sp>
                <p:nvSpPr>
                  <p:cNvPr id="156" name="Freeform 27"/>
                  <p:cNvSpPr/>
                  <p:nvPr/>
                </p:nvSpPr>
                <p:spPr>
                  <a:xfrm>
                    <a:off x="487800" y="6384960"/>
                    <a:ext cx="1006920" cy="3175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28"/>
                  <p:cNvSpPr/>
                  <p:nvPr/>
                </p:nvSpPr>
                <p:spPr>
                  <a:xfrm>
                    <a:off x="535320" y="5825160"/>
                    <a:ext cx="1005480" cy="8719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29"/>
                  <p:cNvSpPr/>
                  <p:nvPr/>
                </p:nvSpPr>
                <p:spPr>
                  <a:xfrm>
                    <a:off x="527040" y="5948640"/>
                    <a:ext cx="53280" cy="4755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9" name="Text Box 30"/>
            <p:cNvSpPr/>
            <p:nvPr/>
          </p:nvSpPr>
          <p:spPr>
            <a:xfrm>
              <a:off x="537120" y="5950080"/>
              <a:ext cx="100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9999"/>
                  </a:solidFill>
                  <a:uFillTx/>
                  <a:latin typeface="Times New Roman"/>
                  <a:hlinkClick r:id="rId4" action="ppaction://hlinksldjump"/>
                </a:rPr>
                <a:t>СОД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9999"/>
                  </a:solidFill>
                  <a:uFillTx/>
                  <a:latin typeface="Times New Roman"/>
                  <a:hlinkClick r:id="rId5" action="ppaction://hlinksldjump"/>
                </a:rPr>
                <a:t>Ж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Управляющая кнопка: домой 22">
            <a:hlinkClick r:id="rId6" action="ppaction://hlinksldjump"/>
          </p:cNvPr>
          <p:cNvSpPr/>
          <p:nvPr/>
        </p:nvSpPr>
        <p:spPr>
          <a:xfrm>
            <a:off x="8786880" y="6429240"/>
            <a:ext cx="357120" cy="4287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29">
                <a:moveTo>
                  <a:pt x="0" y="0"/>
                </a:moveTo>
                <a:lnTo>
                  <a:pt x="21600" y="0"/>
                </a:lnTo>
                <a:lnTo>
                  <a:pt x="21600" y="25929"/>
                </a:lnTo>
                <a:lnTo>
                  <a:pt x="0" y="25929"/>
                </a:lnTo>
                <a:close/>
              </a:path>
              <a:path fill="lightenLess" w="21600" h="259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9">
                <a:moveTo>
                  <a:pt x="21600" y="0"/>
                </a:moveTo>
                <a:lnTo>
                  <a:pt x="21600" y="25929"/>
                </a:lnTo>
                <a:lnTo>
                  <a:pt x="20200" y="24529"/>
                </a:lnTo>
                <a:lnTo>
                  <a:pt x="20200" y="1400"/>
                </a:lnTo>
                <a:close/>
              </a:path>
              <a:path fill="darkenLess" w="21600" h="25929">
                <a:moveTo>
                  <a:pt x="21600" y="25929"/>
                </a:moveTo>
                <a:lnTo>
                  <a:pt x="0" y="25929"/>
                </a:lnTo>
                <a:lnTo>
                  <a:pt x="1400" y="24529"/>
                </a:lnTo>
                <a:lnTo>
                  <a:pt x="20200" y="24529"/>
                </a:lnTo>
                <a:close/>
              </a:path>
              <a:path fill="lighten" w="21600" h="25929">
                <a:moveTo>
                  <a:pt x="0" y="259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9"/>
                </a:lnTo>
                <a:close/>
              </a:path>
              <a:path fill="darken" w="21600" h="25929">
                <a:moveTo>
                  <a:pt x="10800" y="6001"/>
                </a:moveTo>
                <a:lnTo>
                  <a:pt x="13376" y="8612"/>
                </a:lnTo>
                <a:lnTo>
                  <a:pt x="13376" y="6872"/>
                </a:lnTo>
                <a:lnTo>
                  <a:pt x="15152" y="6872"/>
                </a:lnTo>
                <a:lnTo>
                  <a:pt x="15152" y="10388"/>
                </a:lnTo>
                <a:lnTo>
                  <a:pt x="17763" y="12964"/>
                </a:lnTo>
                <a:lnTo>
                  <a:pt x="16109" y="12964"/>
                </a:lnTo>
                <a:lnTo>
                  <a:pt x="16109" y="20154"/>
                </a:lnTo>
                <a:lnTo>
                  <a:pt x="5491" y="20154"/>
                </a:lnTo>
                <a:lnTo>
                  <a:pt x="5491" y="12964"/>
                </a:lnTo>
                <a:lnTo>
                  <a:pt x="3837" y="12964"/>
                </a:lnTo>
                <a:close/>
              </a:path>
              <a:path fill="darkenLess" w="21600" h="25929">
                <a:moveTo>
                  <a:pt x="13376" y="8612"/>
                </a:moveTo>
                <a:lnTo>
                  <a:pt x="13376" y="6872"/>
                </a:lnTo>
                <a:lnTo>
                  <a:pt x="15152" y="6872"/>
                </a:lnTo>
                <a:lnTo>
                  <a:pt x="15152" y="10388"/>
                </a:lnTo>
                <a:close/>
              </a:path>
              <a:path fill="darkenLess" w="21600" h="25929">
                <a:moveTo>
                  <a:pt x="9877" y="16463"/>
                </a:moveTo>
                <a:lnTo>
                  <a:pt x="11723" y="16463"/>
                </a:lnTo>
                <a:lnTo>
                  <a:pt x="11723" y="20154"/>
                </a:lnTo>
                <a:lnTo>
                  <a:pt x="16109" y="20154"/>
                </a:lnTo>
                <a:lnTo>
                  <a:pt x="16109" y="12964"/>
                </a:lnTo>
                <a:lnTo>
                  <a:pt x="5491" y="12964"/>
                </a:lnTo>
                <a:lnTo>
                  <a:pt x="5491" y="20154"/>
                </a:lnTo>
                <a:lnTo>
                  <a:pt x="9877" y="2015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179280" y="838800"/>
            <a:ext cx="5327640" cy="5854680"/>
          </a:xfrm>
          <a:prstGeom prst="rect">
            <a:avLst/>
          </a:prstGeom>
          <a:gradFill rotWithShape="0">
            <a:gsLst>
              <a:gs pos="0">
                <a:srgbClr val="9900ff">
                  <a:alpha val="44313"/>
                </a:srgbClr>
              </a:gs>
              <a:gs pos="100000">
                <a:srgbClr val="ff00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офья Яновская родилась в местечке Пружаны бывшей Гродненской губернии. Детство ее прошло в Одессе, куда переехали родители. Там окончила 2-ю городскую женскую гимназию. Дальнейшее образование она продолжала на Высших женских курсах, сначала на естественном отделении, а потом на математичес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днако серьезные занятия математикой пришлось отложить на долгое время революции. К научным занятиям С.А.Яновская вернулась в 1923 году. В 1924 году Софья Яновская приступает к занятиям в Институте красной профессуры. Здесь она интересуется историей и проблемами математики. Свою учебу в ИКП молодой ученый совмещает с работой в университете, где для студентов и аспирантов ведет семинары по методологии математики и естествознания. В работе одного из таких семинаров принимали участие видные уче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10"/>
          <p:cNvSpPr txBox="1"/>
          <p:nvPr/>
        </p:nvSpPr>
        <p:spPr>
          <a:xfrm>
            <a:off x="826920" y="189000"/>
            <a:ext cx="77058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фья Александровна Яновская (1896 - 1966)</a:t>
            </a:r>
            <a:endParaRPr b="1" i="1" lang="en-US" sz="3200" spc="1" strike="noStrike">
              <a:ln w="9360">
                <a:solidFill>
                  <a:srgbClr val="ff33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3" name="Picture 25" descr="Картинка 5 из 10"/>
          <p:cNvPicPr/>
          <p:nvPr/>
        </p:nvPicPr>
        <p:blipFill>
          <a:blip r:embed="rId1"/>
          <a:stretch/>
        </p:blipFill>
        <p:spPr>
          <a:xfrm>
            <a:off x="5643720" y="1214280"/>
            <a:ext cx="3220920" cy="41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395280" y="1341360"/>
            <a:ext cx="4896000" cy="5031720"/>
          </a:xfrm>
          <a:prstGeom prst="rect">
            <a:avLst/>
          </a:prstGeom>
          <a:gradFill rotWithShape="0">
            <a:gsLst>
              <a:gs pos="0">
                <a:srgbClr val="9900ff">
                  <a:alpha val="44313"/>
                </a:srgbClr>
              </a:gs>
              <a:gs pos="100000">
                <a:srgbClr val="ff00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 30-х годах, продолжая научно-педагогическую деятельность в Москве, Яновская работает в Академии наук в Ленинграде, где руководит методологическим семинаром для научных работ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.А.Яновская имеет свыше 40 печатных научных работ. Она – участник многих математических съездов и конферен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.А.Яновская провела большую работу по повышению математической культуры в нашей стране, в особенности по вопросам методологии математики и логике. За совокупность научных работ в 1931 году С.Яновской присуждено звание профессора, а в 1935 году, без защиты диссертации, - ученая степень доктора физико-математических на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6"/>
          <p:cNvSpPr txBox="1"/>
          <p:nvPr/>
        </p:nvSpPr>
        <p:spPr>
          <a:xfrm>
            <a:off x="1979640" y="404640"/>
            <a:ext cx="5086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уды Софьи Яновской</a:t>
            </a:r>
            <a:endParaRPr b="1" i="1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6" name="Picture 8" descr="Картинка 1 из 10"/>
          <p:cNvPicPr/>
          <p:nvPr/>
        </p:nvPicPr>
        <p:blipFill>
          <a:blip r:embed="rId1"/>
          <a:stretch/>
        </p:blipFill>
        <p:spPr>
          <a:xfrm>
            <a:off x="5724360" y="1125360"/>
            <a:ext cx="2867040" cy="435780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14"/>
          <p:cNvGrpSpPr/>
          <p:nvPr/>
        </p:nvGrpSpPr>
        <p:grpSpPr>
          <a:xfrm>
            <a:off x="7308720" y="5589720"/>
            <a:ext cx="1547640" cy="1033200"/>
            <a:chOff x="7308720" y="5589720"/>
            <a:chExt cx="1547640" cy="1033200"/>
          </a:xfrm>
        </p:grpSpPr>
        <p:grpSp>
          <p:nvGrpSpPr>
            <p:cNvPr id="168" name="Group 15"/>
            <p:cNvGrpSpPr/>
            <p:nvPr/>
          </p:nvGrpSpPr>
          <p:grpSpPr>
            <a:xfrm>
              <a:off x="7308720" y="5589720"/>
              <a:ext cx="1547640" cy="1033200"/>
              <a:chOff x="7308720" y="5589720"/>
              <a:chExt cx="1547640" cy="1033200"/>
            </a:xfrm>
          </p:grpSpPr>
          <p:sp>
            <p:nvSpPr>
              <p:cNvPr id="169" name="AutoShape 16"/>
              <p:cNvSpPr/>
              <p:nvPr/>
            </p:nvSpPr>
            <p:spPr>
              <a:xfrm>
                <a:off x="7309800" y="5589720"/>
                <a:ext cx="1546560" cy="10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Group 17"/>
              <p:cNvGrpSpPr/>
              <p:nvPr/>
            </p:nvGrpSpPr>
            <p:grpSpPr>
              <a:xfrm>
                <a:off x="7308720" y="5675400"/>
                <a:ext cx="616320" cy="941400"/>
                <a:chOff x="7308720" y="5675400"/>
                <a:chExt cx="616320" cy="941400"/>
              </a:xfrm>
            </p:grpSpPr>
            <p:sp>
              <p:nvSpPr>
                <p:cNvPr id="171" name="Freeform 18"/>
                <p:cNvSpPr/>
                <p:nvPr/>
              </p:nvSpPr>
              <p:spPr>
                <a:xfrm>
                  <a:off x="7374240" y="5943600"/>
                  <a:ext cx="208080" cy="34308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9"/>
                <p:cNvSpPr/>
                <p:nvPr/>
              </p:nvSpPr>
              <p:spPr>
                <a:xfrm>
                  <a:off x="7308720" y="5743080"/>
                  <a:ext cx="237960" cy="18288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0"/>
                <p:cNvSpPr/>
                <p:nvPr/>
              </p:nvSpPr>
              <p:spPr>
                <a:xfrm>
                  <a:off x="7457400" y="5675400"/>
                  <a:ext cx="467640" cy="31752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1"/>
                <p:cNvSpPr/>
                <p:nvPr/>
              </p:nvSpPr>
              <p:spPr>
                <a:xfrm>
                  <a:off x="7403760" y="5970240"/>
                  <a:ext cx="464400" cy="33552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2"/>
                <p:cNvSpPr/>
                <p:nvPr/>
              </p:nvSpPr>
              <p:spPr>
                <a:xfrm>
                  <a:off x="7349040" y="6211440"/>
                  <a:ext cx="130680" cy="40536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3"/>
                <p:cNvSpPr/>
                <p:nvPr/>
              </p:nvSpPr>
              <p:spPr>
                <a:xfrm>
                  <a:off x="7456320" y="6216840"/>
                  <a:ext cx="218880" cy="35280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24"/>
              <p:cNvGrpSpPr/>
              <p:nvPr/>
            </p:nvGrpSpPr>
            <p:grpSpPr>
              <a:xfrm>
                <a:off x="7796880" y="5590440"/>
                <a:ext cx="1053360" cy="877320"/>
                <a:chOff x="7796880" y="5590440"/>
                <a:chExt cx="1053360" cy="877320"/>
              </a:xfrm>
            </p:grpSpPr>
            <p:sp>
              <p:nvSpPr>
                <p:cNvPr id="178" name="Freeform 25"/>
                <p:cNvSpPr/>
                <p:nvPr/>
              </p:nvSpPr>
              <p:spPr>
                <a:xfrm>
                  <a:off x="7805160" y="5598720"/>
                  <a:ext cx="1033560" cy="857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cc66"/>
                    </a:gs>
                    <a:gs pos="50000">
                      <a:srgbClr val="99cc00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Group 26"/>
                <p:cNvGrpSpPr/>
                <p:nvPr/>
              </p:nvGrpSpPr>
              <p:grpSpPr>
                <a:xfrm>
                  <a:off x="7796880" y="5590440"/>
                  <a:ext cx="1053360" cy="877320"/>
                  <a:chOff x="7796880" y="5590440"/>
                  <a:chExt cx="1053360" cy="877320"/>
                </a:xfrm>
              </p:grpSpPr>
              <p:sp>
                <p:nvSpPr>
                  <p:cNvPr id="180" name="Freeform 27"/>
                  <p:cNvSpPr/>
                  <p:nvPr/>
                </p:nvSpPr>
                <p:spPr>
                  <a:xfrm>
                    <a:off x="7796880" y="6150240"/>
                    <a:ext cx="1007280" cy="3175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28"/>
                  <p:cNvSpPr/>
                  <p:nvPr/>
                </p:nvSpPr>
                <p:spPr>
                  <a:xfrm>
                    <a:off x="7844400" y="5590440"/>
                    <a:ext cx="1005840" cy="8719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29"/>
                  <p:cNvSpPr/>
                  <p:nvPr/>
                </p:nvSpPr>
                <p:spPr>
                  <a:xfrm>
                    <a:off x="7836120" y="5713920"/>
                    <a:ext cx="53280" cy="4755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3" name="Text Box 30"/>
            <p:cNvSpPr/>
            <p:nvPr/>
          </p:nvSpPr>
          <p:spPr>
            <a:xfrm>
              <a:off x="7846200" y="5715000"/>
              <a:ext cx="1007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80"/>
                  </a:solidFill>
                  <a:latin typeface="Times New Roman"/>
                </a:rPr>
                <a:t>СОД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80"/>
                  </a:solidFill>
                  <a:latin typeface="Times New Roman"/>
                </a:rPr>
                <a:t>Ж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Управляющая кнопка: домой 21"/>
          <p:cNvSpPr/>
          <p:nvPr/>
        </p:nvSpPr>
        <p:spPr>
          <a:xfrm>
            <a:off x="0" y="6429240"/>
            <a:ext cx="357120" cy="4287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29">
                <a:moveTo>
                  <a:pt x="0" y="0"/>
                </a:moveTo>
                <a:lnTo>
                  <a:pt x="21600" y="0"/>
                </a:lnTo>
                <a:lnTo>
                  <a:pt x="21600" y="25929"/>
                </a:lnTo>
                <a:lnTo>
                  <a:pt x="0" y="25929"/>
                </a:lnTo>
                <a:close/>
              </a:path>
              <a:path fill="lightenLess" w="21600" h="259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9">
                <a:moveTo>
                  <a:pt x="21600" y="0"/>
                </a:moveTo>
                <a:lnTo>
                  <a:pt x="21600" y="25929"/>
                </a:lnTo>
                <a:lnTo>
                  <a:pt x="20200" y="24529"/>
                </a:lnTo>
                <a:lnTo>
                  <a:pt x="20200" y="1400"/>
                </a:lnTo>
                <a:close/>
              </a:path>
              <a:path fill="darkenLess" w="21600" h="25929">
                <a:moveTo>
                  <a:pt x="21600" y="25929"/>
                </a:moveTo>
                <a:lnTo>
                  <a:pt x="0" y="25929"/>
                </a:lnTo>
                <a:lnTo>
                  <a:pt x="1400" y="24529"/>
                </a:lnTo>
                <a:lnTo>
                  <a:pt x="20200" y="24529"/>
                </a:lnTo>
                <a:close/>
              </a:path>
              <a:path fill="lighten" w="21600" h="25929">
                <a:moveTo>
                  <a:pt x="0" y="259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9"/>
                </a:lnTo>
                <a:close/>
              </a:path>
              <a:path fill="darken" w="21600" h="25929">
                <a:moveTo>
                  <a:pt x="10800" y="6001"/>
                </a:moveTo>
                <a:lnTo>
                  <a:pt x="13376" y="8612"/>
                </a:lnTo>
                <a:lnTo>
                  <a:pt x="13376" y="6872"/>
                </a:lnTo>
                <a:lnTo>
                  <a:pt x="15152" y="6872"/>
                </a:lnTo>
                <a:lnTo>
                  <a:pt x="15152" y="10388"/>
                </a:lnTo>
                <a:lnTo>
                  <a:pt x="17763" y="12964"/>
                </a:lnTo>
                <a:lnTo>
                  <a:pt x="16109" y="12964"/>
                </a:lnTo>
                <a:lnTo>
                  <a:pt x="16109" y="20154"/>
                </a:lnTo>
                <a:lnTo>
                  <a:pt x="5491" y="20154"/>
                </a:lnTo>
                <a:lnTo>
                  <a:pt x="5491" y="12964"/>
                </a:lnTo>
                <a:lnTo>
                  <a:pt x="3837" y="12964"/>
                </a:lnTo>
                <a:close/>
              </a:path>
              <a:path fill="darkenLess" w="21600" h="25929">
                <a:moveTo>
                  <a:pt x="13376" y="8612"/>
                </a:moveTo>
                <a:lnTo>
                  <a:pt x="13376" y="6872"/>
                </a:lnTo>
                <a:lnTo>
                  <a:pt x="15152" y="6872"/>
                </a:lnTo>
                <a:lnTo>
                  <a:pt x="15152" y="10388"/>
                </a:lnTo>
                <a:close/>
              </a:path>
              <a:path fill="darkenLess" w="21600" h="25929">
                <a:moveTo>
                  <a:pt x="9877" y="16463"/>
                </a:moveTo>
                <a:lnTo>
                  <a:pt x="11723" y="16463"/>
                </a:lnTo>
                <a:lnTo>
                  <a:pt x="11723" y="20154"/>
                </a:lnTo>
                <a:lnTo>
                  <a:pt x="16109" y="20154"/>
                </a:lnTo>
                <a:lnTo>
                  <a:pt x="16109" y="12964"/>
                </a:lnTo>
                <a:lnTo>
                  <a:pt x="5491" y="12964"/>
                </a:lnTo>
                <a:lnTo>
                  <a:pt x="5491" y="20154"/>
                </a:lnTo>
                <a:lnTo>
                  <a:pt x="9877" y="2015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Картинка 1 из 1"/>
          <p:cNvPicPr/>
          <p:nvPr/>
        </p:nvPicPr>
        <p:blipFill>
          <a:blip r:embed="rId1"/>
          <a:stretch/>
        </p:blipFill>
        <p:spPr>
          <a:xfrm>
            <a:off x="179280" y="1628640"/>
            <a:ext cx="3168720" cy="39610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3419640" y="983160"/>
            <a:ext cx="5543280" cy="5580360"/>
          </a:xfrm>
          <a:prstGeom prst="rect">
            <a:avLst/>
          </a:prstGeom>
          <a:gradFill rotWithShape="0">
            <a:gsLst>
              <a:gs pos="0">
                <a:srgbClr val="9900ff">
                  <a:alpha val="44313"/>
                </a:srgbClr>
              </a:gs>
              <a:gs pos="100000">
                <a:srgbClr val="ff00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ина Карловна Бари – советский математик , доктор физико-математических наук, профессор М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ина Бари росла одаренным ребенком. Еще в гимназии она увлеклась математикой, которую считала любимым предметом. Нина Карловна была одной из первых женщин, поступивших учиться на физико-математический факультет Московского университ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 1925 году Н.К.Бари блестяще окончила аспирантуру Московского университета, а в январе следующего года успешно защитила кандидатскую диссертацию на тему “ О единственности тригонометрических разложений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тепень доктора физико-математических наук ей присудили в 1935 году, когда она была уже известным ученым, имевшим большие заслуги в изучении тригонометрических рядов и теории множ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7"/>
          <p:cNvSpPr txBox="1"/>
          <p:nvPr/>
        </p:nvSpPr>
        <p:spPr>
          <a:xfrm>
            <a:off x="468360" y="260280"/>
            <a:ext cx="7810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ина Карловна Бари ( 1901 – 1961 ) </a:t>
            </a:r>
            <a:endParaRPr b="1" i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468360" y="1268280"/>
            <a:ext cx="8137440" cy="4483080"/>
          </a:xfrm>
          <a:prstGeom prst="rect">
            <a:avLst/>
          </a:prstGeom>
          <a:gradFill rotWithShape="0">
            <a:gsLst>
              <a:gs pos="0">
                <a:srgbClr val="9900ff">
                  <a:alpha val="44313"/>
                </a:srgbClr>
              </a:gs>
              <a:gs pos="100000">
                <a:srgbClr val="ff00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.К.Бари оставила неизгладимый след в науке, которой она была предана всем своим сердцем. Но она не замыкалась в рамках только “чистой” нау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ина Карловна была активной общественницей. Много лет она являлась заседателем народного с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.К.Бари – ученый с мировым именем. С 1927 года она – член Французского и Польского математических об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 1927 году в Париже активно участвовала в семинаре академика Адамара. Через год, снова в Париже, ведет большую научно-исследовательскую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15 июля 1961 года Н.К.Бари погибла, попав под поез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5"/>
          <p:cNvSpPr txBox="1"/>
          <p:nvPr/>
        </p:nvSpPr>
        <p:spPr>
          <a:xfrm>
            <a:off x="539640" y="404640"/>
            <a:ext cx="802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. К. Бари - ученый с мировым именем</a:t>
            </a:r>
            <a:endParaRPr b="1" i="1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" name="Управляющая кнопка: домой 3"/>
          <p:cNvSpPr/>
          <p:nvPr/>
        </p:nvSpPr>
        <p:spPr>
          <a:xfrm>
            <a:off x="8786880" y="6429240"/>
            <a:ext cx="357120" cy="4287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29">
                <a:moveTo>
                  <a:pt x="0" y="0"/>
                </a:moveTo>
                <a:lnTo>
                  <a:pt x="21600" y="0"/>
                </a:lnTo>
                <a:lnTo>
                  <a:pt x="21600" y="25929"/>
                </a:lnTo>
                <a:lnTo>
                  <a:pt x="0" y="25929"/>
                </a:lnTo>
                <a:close/>
              </a:path>
              <a:path fill="lightenLess" w="21600" h="259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9">
                <a:moveTo>
                  <a:pt x="21600" y="0"/>
                </a:moveTo>
                <a:lnTo>
                  <a:pt x="21600" y="25929"/>
                </a:lnTo>
                <a:lnTo>
                  <a:pt x="20200" y="24529"/>
                </a:lnTo>
                <a:lnTo>
                  <a:pt x="20200" y="1400"/>
                </a:lnTo>
                <a:close/>
              </a:path>
              <a:path fill="darkenLess" w="21600" h="25929">
                <a:moveTo>
                  <a:pt x="21600" y="25929"/>
                </a:moveTo>
                <a:lnTo>
                  <a:pt x="0" y="25929"/>
                </a:lnTo>
                <a:lnTo>
                  <a:pt x="1400" y="24529"/>
                </a:lnTo>
                <a:lnTo>
                  <a:pt x="20200" y="24529"/>
                </a:lnTo>
                <a:close/>
              </a:path>
              <a:path fill="lighten" w="21600" h="25929">
                <a:moveTo>
                  <a:pt x="0" y="259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9"/>
                </a:lnTo>
                <a:close/>
              </a:path>
              <a:path fill="darken" w="21600" h="25929">
                <a:moveTo>
                  <a:pt x="10800" y="6001"/>
                </a:moveTo>
                <a:lnTo>
                  <a:pt x="13376" y="8612"/>
                </a:lnTo>
                <a:lnTo>
                  <a:pt x="13376" y="6872"/>
                </a:lnTo>
                <a:lnTo>
                  <a:pt x="15152" y="6872"/>
                </a:lnTo>
                <a:lnTo>
                  <a:pt x="15152" y="10388"/>
                </a:lnTo>
                <a:lnTo>
                  <a:pt x="17763" y="12964"/>
                </a:lnTo>
                <a:lnTo>
                  <a:pt x="16109" y="12964"/>
                </a:lnTo>
                <a:lnTo>
                  <a:pt x="16109" y="20154"/>
                </a:lnTo>
                <a:lnTo>
                  <a:pt x="5491" y="20154"/>
                </a:lnTo>
                <a:lnTo>
                  <a:pt x="5491" y="12964"/>
                </a:lnTo>
                <a:lnTo>
                  <a:pt x="3837" y="12964"/>
                </a:lnTo>
                <a:close/>
              </a:path>
              <a:path fill="darkenLess" w="21600" h="25929">
                <a:moveTo>
                  <a:pt x="13376" y="8612"/>
                </a:moveTo>
                <a:lnTo>
                  <a:pt x="13376" y="6872"/>
                </a:lnTo>
                <a:lnTo>
                  <a:pt x="15152" y="6872"/>
                </a:lnTo>
                <a:lnTo>
                  <a:pt x="15152" y="10388"/>
                </a:lnTo>
                <a:close/>
              </a:path>
              <a:path fill="darkenLess" w="21600" h="25929">
                <a:moveTo>
                  <a:pt x="9877" y="16463"/>
                </a:moveTo>
                <a:lnTo>
                  <a:pt x="11723" y="16463"/>
                </a:lnTo>
                <a:lnTo>
                  <a:pt x="11723" y="20154"/>
                </a:lnTo>
                <a:lnTo>
                  <a:pt x="16109" y="20154"/>
                </a:lnTo>
                <a:lnTo>
                  <a:pt x="16109" y="12964"/>
                </a:lnTo>
                <a:lnTo>
                  <a:pt x="5491" y="12964"/>
                </a:lnTo>
                <a:lnTo>
                  <a:pt x="5491" y="20154"/>
                </a:lnTo>
                <a:lnTo>
                  <a:pt x="9877" y="2015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4"/>
          <p:cNvSpPr txBox="1"/>
          <p:nvPr/>
        </p:nvSpPr>
        <p:spPr>
          <a:xfrm>
            <a:off x="2124000" y="333360"/>
            <a:ext cx="496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ключение</a:t>
            </a:r>
            <a:endParaRPr b="1" i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24000" y="1343160"/>
            <a:ext cx="8351640" cy="5031720"/>
          </a:xfrm>
          <a:prstGeom prst="rect">
            <a:avLst/>
          </a:prstGeom>
          <a:gradFill rotWithShape="0">
            <a:gsLst>
              <a:gs pos="0">
                <a:srgbClr val="9900ff">
                  <a:alpha val="44313"/>
                </a:srgbClr>
              </a:gs>
              <a:gs pos="100000">
                <a:srgbClr val="ff00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Трудна и порою опасна была жизнь и научная деятельность женщин – математиков, которые своим трудом , настойчивостью и упорством завоевали всемирное признание наравне с мужчинами – математи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Вся их деятельность – это жизненный подвиг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900000" y="1773360"/>
            <a:ext cx="6357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икипедия. Свободная энциклопедия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http://ru.wikipedia.org/wik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Баврин И.И., Фрибус Е.А. Старинные задачи: Кн. Для учащихся. – М: Просвещение,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епман И. Я., Виленкин Н. Я.  За страницами учебника математики: Пособие для учащихся 5-6 классов средней школы: М. : Просвещение, 198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2124000" y="765000"/>
            <a:ext cx="486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исок литературы</a:t>
            </a:r>
            <a:endParaRPr b="1" i="1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2124000" y="692280"/>
            <a:ext cx="460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держание</a:t>
            </a:r>
            <a:endParaRPr b="1" i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14200" y="1571760"/>
            <a:ext cx="8572680" cy="5172480"/>
          </a:xfrm>
          <a:prstGeom prst="rect">
            <a:avLst/>
          </a:prstGeom>
          <a:gradFill rotWithShape="0">
            <a:gsLst>
              <a:gs pos="0">
                <a:srgbClr val="9900ff">
                  <a:alpha val="39215"/>
                </a:srgbClr>
              </a:gs>
              <a:gs pos="100000">
                <a:srgbClr val="ff00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.     В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1.1  Цель  и задач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1.2  Проблема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1.3  Анно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2.    Женщины-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.1  Гипатия Александрий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.2  Софи Жер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2.3  Софья Васильевна Ковалев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2.4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Софья Александровна Янов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2.5  Нина Карловна Ба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3.  Заключение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4.  Список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star21"/>
          <p:cNvPicPr/>
          <p:nvPr/>
        </p:nvPicPr>
        <p:blipFill>
          <a:blip r:embed="rId8"/>
          <a:stretch/>
        </p:blipFill>
        <p:spPr>
          <a:xfrm>
            <a:off x="1835280" y="-243000"/>
            <a:ext cx="1860480" cy="223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PE03166_"/>
          <p:cNvPicPr/>
          <p:nvPr/>
        </p:nvPicPr>
        <p:blipFill>
          <a:blip r:embed="rId9"/>
          <a:stretch/>
        </p:blipFill>
        <p:spPr>
          <a:xfrm>
            <a:off x="6300720" y="3213000"/>
            <a:ext cx="2346480" cy="247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684360" y="620640"/>
            <a:ext cx="770400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250920" y="260280"/>
            <a:ext cx="321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и проекта: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250920" y="3716280"/>
            <a:ext cx="321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дачи проекта: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Picture 9" descr="i?id=119100544&amp;tov=5"/>
          <p:cNvPicPr/>
          <p:nvPr/>
        </p:nvPicPr>
        <p:blipFill>
          <a:blip r:embed="rId1"/>
          <a:stretch/>
        </p:blipFill>
        <p:spPr>
          <a:xfrm>
            <a:off x="826920" y="981000"/>
            <a:ext cx="1967040" cy="22813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3024360" y="922680"/>
            <a:ext cx="61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ff"/>
              </a:buClr>
              <a:buFont typeface="Wingdings" charset="2"/>
              <a:buChar char="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обрать и систематизировать материал о жизни и достижениях великих женщин - математиков, оставивших весомый вклад в истории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Wingdings" charset="2"/>
              <a:buChar char="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формить в виде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419640" y="3835800"/>
            <a:ext cx="57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ff"/>
              </a:buClr>
              <a:buFont typeface="Wingdings" charset="2"/>
              <a:buChar char="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6669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изучить источники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Wingdings" charset="2"/>
              <a:buChar char="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6669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формить весь отобранный материал в соответствие с требованиями программы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Microsoft PowerPoint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Wingdings" charset="2"/>
              <a:buChar char="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6669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азработать дизайн презентации, вставить иллю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BS00554_"/>
          <p:cNvPicPr/>
          <p:nvPr/>
        </p:nvPicPr>
        <p:blipFill>
          <a:blip r:embed="rId2"/>
          <a:stretch/>
        </p:blipFill>
        <p:spPr>
          <a:xfrm>
            <a:off x="755640" y="4365720"/>
            <a:ext cx="2606760" cy="22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женщина-математик.bmp"/>
          <p:cNvPicPr/>
          <p:nvPr/>
        </p:nvPicPr>
        <p:blipFill>
          <a:blip r:embed="rId1"/>
          <a:stretch/>
        </p:blipFill>
        <p:spPr>
          <a:xfrm>
            <a:off x="6029280" y="1762200"/>
            <a:ext cx="3078360" cy="376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14200" y="1143000"/>
            <a:ext cx="62150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"Когда ты предо мн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я слышу речь твою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Благоговейно взор в обител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чистых звезд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Я возвожу, так все в тебе, Гипат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Небесно - и дела, и красота рече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И чистый, как звезда, науки мудрой Свет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Эти строки были написаны греческим  поэтом Палласом в честь философа и математика Гипат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то мы знаем о женщинах-математика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2124000" y="404640"/>
            <a:ext cx="518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блема проекта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042920" y="1647360"/>
            <a:ext cx="7632720" cy="4208760"/>
          </a:xfrm>
          <a:prstGeom prst="rect">
            <a:avLst/>
          </a:prstGeom>
          <a:gradFill rotWithShape="0">
            <a:gsLst>
              <a:gs pos="0">
                <a:srgbClr val="9900ff">
                  <a:alpha val="44313"/>
                </a:srgbClr>
              </a:gs>
              <a:gs pos="100000">
                <a:srgbClr val="ff00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 данном проекте рассказывается про женщин – математиков, которые своими трудами обогатили математическую нау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аша Родина всегда была богата математическими талантами, в том числе и женскими. Но в условиях царской России они не находили государственной поддержки и, как правило, гибли без поры и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Жизнь женщин – математиков сложилась трудно. Нелегко было пробивать дорогу к науке женщинам, преодолевая и сложные условия того времени и свои тяжелые настроения, которые их порой охватывали под влиянием житейских неудач, борьбы между личным и общественным, между чувством и дол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реди женщин-математиков наиболее известны Гипатия Александрийская, Софья Васильевна Ковалевская, Софи Жермен,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ина Карловна Бари, Софья Александровна Яновская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писанию жизни и деятельности этих ученых и посвящена данная раб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2627280" y="476280"/>
            <a:ext cx="4535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нотация</a:t>
            </a:r>
            <a:endParaRPr b="1" i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179280" y="5824440"/>
            <a:ext cx="1657080" cy="1033560"/>
            <a:chOff x="179280" y="5824440"/>
            <a:chExt cx="1657080" cy="1033560"/>
          </a:xfrm>
        </p:grpSpPr>
        <p:grpSp>
          <p:nvGrpSpPr>
            <p:cNvPr id="62" name="Group 7"/>
            <p:cNvGrpSpPr/>
            <p:nvPr/>
          </p:nvGrpSpPr>
          <p:grpSpPr>
            <a:xfrm>
              <a:off x="179280" y="5824440"/>
              <a:ext cx="1657080" cy="1033560"/>
              <a:chOff x="179280" y="5824440"/>
              <a:chExt cx="1657080" cy="1033560"/>
            </a:xfrm>
          </p:grpSpPr>
          <p:sp>
            <p:nvSpPr>
              <p:cNvPr id="63" name="AutoShape 8"/>
              <p:cNvSpPr/>
              <p:nvPr/>
            </p:nvSpPr>
            <p:spPr>
              <a:xfrm>
                <a:off x="180720" y="5824440"/>
                <a:ext cx="1655640" cy="103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Group 9"/>
              <p:cNvGrpSpPr/>
              <p:nvPr/>
            </p:nvGrpSpPr>
            <p:grpSpPr>
              <a:xfrm>
                <a:off x="179280" y="5910120"/>
                <a:ext cx="659520" cy="942120"/>
                <a:chOff x="179280" y="5910120"/>
                <a:chExt cx="659520" cy="942120"/>
              </a:xfrm>
            </p:grpSpPr>
            <p:sp>
              <p:nvSpPr>
                <p:cNvPr id="65" name="Freeform 10"/>
                <p:cNvSpPr/>
                <p:nvPr/>
              </p:nvSpPr>
              <p:spPr>
                <a:xfrm>
                  <a:off x="249480" y="6178320"/>
                  <a:ext cx="222480" cy="34308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11"/>
                <p:cNvSpPr/>
                <p:nvPr/>
              </p:nvSpPr>
              <p:spPr>
                <a:xfrm>
                  <a:off x="179280" y="5977800"/>
                  <a:ext cx="254520" cy="18288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12"/>
                <p:cNvSpPr/>
                <p:nvPr/>
              </p:nvSpPr>
              <p:spPr>
                <a:xfrm>
                  <a:off x="338400" y="5910120"/>
                  <a:ext cx="500400" cy="31752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13"/>
                <p:cNvSpPr/>
                <p:nvPr/>
              </p:nvSpPr>
              <p:spPr>
                <a:xfrm>
                  <a:off x="281160" y="6204960"/>
                  <a:ext cx="496800" cy="33588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14"/>
                <p:cNvSpPr/>
                <p:nvPr/>
              </p:nvSpPr>
              <p:spPr>
                <a:xfrm>
                  <a:off x="222480" y="6446520"/>
                  <a:ext cx="140040" cy="40572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337320" y="6451920"/>
                  <a:ext cx="234000" cy="35280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16"/>
              <p:cNvGrpSpPr/>
              <p:nvPr/>
            </p:nvGrpSpPr>
            <p:grpSpPr>
              <a:xfrm>
                <a:off x="701640" y="5825160"/>
                <a:ext cx="1127880" cy="877320"/>
                <a:chOff x="701640" y="5825160"/>
                <a:chExt cx="1127880" cy="877320"/>
              </a:xfrm>
            </p:grpSpPr>
            <p:sp>
              <p:nvSpPr>
                <p:cNvPr id="72" name="Freeform 17"/>
                <p:cNvSpPr/>
                <p:nvPr/>
              </p:nvSpPr>
              <p:spPr>
                <a:xfrm>
                  <a:off x="711720" y="5833440"/>
                  <a:ext cx="1105920" cy="857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cc66"/>
                    </a:gs>
                    <a:gs pos="50000">
                      <a:srgbClr val="99cc00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Group 18"/>
                <p:cNvGrpSpPr/>
                <p:nvPr/>
              </p:nvGrpSpPr>
              <p:grpSpPr>
                <a:xfrm>
                  <a:off x="701640" y="5825160"/>
                  <a:ext cx="1127880" cy="877320"/>
                  <a:chOff x="701640" y="5825160"/>
                  <a:chExt cx="1127880" cy="877320"/>
                </a:xfrm>
              </p:grpSpPr>
              <p:sp>
                <p:nvSpPr>
                  <p:cNvPr id="74" name="Freeform 19"/>
                  <p:cNvSpPr/>
                  <p:nvPr/>
                </p:nvSpPr>
                <p:spPr>
                  <a:xfrm>
                    <a:off x="701640" y="6384960"/>
                    <a:ext cx="1078200" cy="3175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20"/>
                  <p:cNvSpPr/>
                  <p:nvPr/>
                </p:nvSpPr>
                <p:spPr>
                  <a:xfrm>
                    <a:off x="752760" y="5825160"/>
                    <a:ext cx="1076760" cy="8719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21"/>
                  <p:cNvSpPr/>
                  <p:nvPr/>
                </p:nvSpPr>
                <p:spPr>
                  <a:xfrm>
                    <a:off x="743760" y="5948640"/>
                    <a:ext cx="56880" cy="4755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7" name="Text Box 22"/>
            <p:cNvSpPr/>
            <p:nvPr/>
          </p:nvSpPr>
          <p:spPr>
            <a:xfrm>
              <a:off x="755280" y="5950080"/>
              <a:ext cx="10796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 action="ppaction://hlinksldjump"/>
                </a:rPr>
                <a:t>СОД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9999"/>
                  </a:solidFill>
                  <a:uFillTx/>
                  <a:latin typeface="Times New Roman"/>
                  <a:hlinkClick r:id="rId3" action="ppaction://hlinksldjump"/>
                </a:rPr>
                <a:t>Ж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4" descr="J0095699"/>
          <p:cNvPicPr/>
          <p:nvPr/>
        </p:nvPicPr>
        <p:blipFill>
          <a:blip r:embed="rId4"/>
          <a:stretch/>
        </p:blipFill>
        <p:spPr>
          <a:xfrm>
            <a:off x="0" y="0"/>
            <a:ext cx="2324160" cy="183816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возврат 21">
            <a:hlinkClick r:id="rId5" action="ppaction://hlinksldjump"/>
          </p:cNvPr>
          <p:cNvSpPr/>
          <p:nvPr/>
        </p:nvSpPr>
        <p:spPr>
          <a:xfrm>
            <a:off x="8358120" y="62866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7493"/>
                </a:moveTo>
                <a:lnTo>
                  <a:pt x="11619" y="7493"/>
                </a:lnTo>
                <a:lnTo>
                  <a:pt x="11619" y="12828"/>
                </a:lnTo>
                <a:cubicBezTo>
                  <a:pt x="11619" y="13751"/>
                  <a:pt x="12420" y="14482"/>
                  <a:pt x="13455" y="14482"/>
                </a:cubicBezTo>
                <a:lnTo>
                  <a:pt x="15118" y="14482"/>
                </a:lnTo>
                <a:cubicBezTo>
                  <a:pt x="16154" y="14482"/>
                  <a:pt x="16954" y="13751"/>
                  <a:pt x="16954" y="12828"/>
                </a:cubicBezTo>
                <a:lnTo>
                  <a:pt x="16954" y="7493"/>
                </a:lnTo>
                <a:lnTo>
                  <a:pt x="15118" y="7493"/>
                </a:lnTo>
                <a:lnTo>
                  <a:pt x="18625" y="3985"/>
                </a:lnTo>
                <a:lnTo>
                  <a:pt x="22298" y="7493"/>
                </a:lnTo>
                <a:lnTo>
                  <a:pt x="20462" y="7493"/>
                </a:lnTo>
                <a:lnTo>
                  <a:pt x="20462" y="12828"/>
                </a:lnTo>
                <a:cubicBezTo>
                  <a:pt x="20462" y="15596"/>
                  <a:pt x="17886" y="18155"/>
                  <a:pt x="15118" y="18155"/>
                </a:cubicBezTo>
                <a:lnTo>
                  <a:pt x="13455" y="18155"/>
                </a:lnTo>
                <a:cubicBezTo>
                  <a:pt x="10688" y="18155"/>
                  <a:pt x="8111" y="15596"/>
                  <a:pt x="8111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3"/>
          <p:cNvSpPr/>
          <p:nvPr/>
        </p:nvSpPr>
        <p:spPr>
          <a:xfrm>
            <a:off x="250920" y="765000"/>
            <a:ext cx="8713800" cy="5031720"/>
          </a:xfrm>
          <a:prstGeom prst="rect">
            <a:avLst/>
          </a:prstGeom>
          <a:gradFill rotWithShape="0">
            <a:gsLst>
              <a:gs pos="0">
                <a:srgbClr val="9900ff">
                  <a:alpha val="46274"/>
                </a:srgbClr>
              </a:gs>
              <a:gs pos="100000">
                <a:srgbClr val="ff00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ипатия Александрийская – видная представительница древнегреческой философии и математики. Гипатия, по описанию историков, была женщиной необыкновенной красоты и большого ума. Образование Гипатия получила под руководством своего отца, Теона Александрийского, принадлежавшего к числу ученых Александрийской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коло 400 года Гипатия была приглашена чит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лекции в Александрийскую школу. Она заня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дну из ведущих кафедр — кафедру философ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ипатия преподавала математику, философ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латона и Аристотеля, занималась вычисл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строномических таблиц. Гипатия приним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участие в александрийской городской полити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мея влияние на главу города, префекта Оре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то обстоятельство вызывало постоянные т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 епископом Кириллом, и христианская общ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читала Гипатию виновной в возникшей в ито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муте. В 415 году группа сторонников еписк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ирилла напала на Гипатию и убила 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2sh"/>
          <p:cNvPicPr/>
          <p:nvPr/>
        </p:nvPicPr>
        <p:blipFill>
          <a:blip r:embed="rId1"/>
          <a:stretch/>
        </p:blipFill>
        <p:spPr>
          <a:xfrm>
            <a:off x="5940360" y="1916280"/>
            <a:ext cx="2762280" cy="3771720"/>
          </a:xfrm>
          <a:prstGeom prst="rect">
            <a:avLst/>
          </a:prstGeom>
          <a:ln w="0">
            <a:noFill/>
          </a:ln>
        </p:spPr>
      </p:pic>
      <p:sp>
        <p:nvSpPr>
          <p:cNvPr id="82" name="WordArt 33"/>
          <p:cNvSpPr txBox="1"/>
          <p:nvPr/>
        </p:nvSpPr>
        <p:spPr>
          <a:xfrm>
            <a:off x="826920" y="189000"/>
            <a:ext cx="78487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патия Александрийская (370—415 )</a:t>
            </a:r>
            <a:endParaRPr b="1" i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79280" y="838440"/>
            <a:ext cx="5327640" cy="5306040"/>
          </a:xfrm>
          <a:prstGeom prst="rect">
            <a:avLst/>
          </a:prstGeom>
          <a:gradFill rotWithShape="0">
            <a:gsLst>
              <a:gs pos="0">
                <a:srgbClr val="9900ff">
                  <a:alpha val="44313"/>
                </a:srgbClr>
              </a:gs>
              <a:gs pos="100000">
                <a:srgbClr val="ff00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ипатия, как считается, изобрела ареометр, астролябии – прибора для определения широт и долгот в астрономии – и планисферы – изображения небесной сферы на плоскости, по которому можно вычислять восход и заход небесных светил, составила карту известных в то время небесных 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Многие работы, приписываемые Гипатии, как считается, написаны в сотрудничестве с её отцом Теоном. Наиболее известны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омментарий к 13-й книге «Арифметики» Диофан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едакция третьей книги комментариев Теона к «Альмагесту» Птолеме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едакция комментариев Теона к «Началам» Евклид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омментарии к «Коникам» Аполлония Пергског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«Астрономический кан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9"/>
          <p:cNvSpPr txBox="1"/>
          <p:nvPr/>
        </p:nvSpPr>
        <p:spPr>
          <a:xfrm>
            <a:off x="1908000" y="189000"/>
            <a:ext cx="54007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учные труды</a:t>
            </a:r>
            <a:endParaRPr b="1" i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" name="Рисунок 6" descr="mhtml:file://J:\ПРОЕКТ%20ЛЕОНТ%20ГАЛЯ\Ареометр%20—%20Википедия.mht!http://upload.wikimedia.org/wikipedia/commons/thumb/2/21/Saccharometer.jpg/180px-Saccharometer.jpg">
            <a:hlinkClick r:id="rId1"/>
          </p:cNvPr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6372360" y="1197000"/>
            <a:ext cx="2084400" cy="43927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5514120" y="6021000"/>
            <a:ext cx="35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реометр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 — прибор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змерения плотности жид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4"/>
          <p:cNvGrpSpPr/>
          <p:nvPr/>
        </p:nvGrpSpPr>
        <p:grpSpPr>
          <a:xfrm>
            <a:off x="3635280" y="5661000"/>
            <a:ext cx="1657440" cy="1033560"/>
            <a:chOff x="3635280" y="5661000"/>
            <a:chExt cx="1657440" cy="1033560"/>
          </a:xfrm>
        </p:grpSpPr>
        <p:grpSp>
          <p:nvGrpSpPr>
            <p:cNvPr id="88" name="Group 15"/>
            <p:cNvGrpSpPr/>
            <p:nvPr/>
          </p:nvGrpSpPr>
          <p:grpSpPr>
            <a:xfrm>
              <a:off x="3635280" y="5661000"/>
              <a:ext cx="1657440" cy="1033560"/>
              <a:chOff x="3635280" y="5661000"/>
              <a:chExt cx="1657440" cy="1033560"/>
            </a:xfrm>
          </p:grpSpPr>
          <p:sp>
            <p:nvSpPr>
              <p:cNvPr id="89" name="AutoShape 16"/>
              <p:cNvSpPr/>
              <p:nvPr/>
            </p:nvSpPr>
            <p:spPr>
              <a:xfrm>
                <a:off x="3636720" y="5661000"/>
                <a:ext cx="1656000" cy="103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Group 17"/>
              <p:cNvGrpSpPr/>
              <p:nvPr/>
            </p:nvGrpSpPr>
            <p:grpSpPr>
              <a:xfrm>
                <a:off x="3635280" y="5746680"/>
                <a:ext cx="659880" cy="942120"/>
                <a:chOff x="3635280" y="5746680"/>
                <a:chExt cx="659880" cy="942120"/>
              </a:xfrm>
            </p:grpSpPr>
            <p:sp>
              <p:nvSpPr>
                <p:cNvPr id="91" name="Freeform 18"/>
                <p:cNvSpPr/>
                <p:nvPr/>
              </p:nvSpPr>
              <p:spPr>
                <a:xfrm>
                  <a:off x="3705480" y="6014880"/>
                  <a:ext cx="222840" cy="34308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19"/>
                <p:cNvSpPr/>
                <p:nvPr/>
              </p:nvSpPr>
              <p:spPr>
                <a:xfrm>
                  <a:off x="3635280" y="5814360"/>
                  <a:ext cx="254880" cy="18288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20"/>
                <p:cNvSpPr/>
                <p:nvPr/>
              </p:nvSpPr>
              <p:spPr>
                <a:xfrm>
                  <a:off x="3794400" y="5746680"/>
                  <a:ext cx="500760" cy="31752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21"/>
                <p:cNvSpPr/>
                <p:nvPr/>
              </p:nvSpPr>
              <p:spPr>
                <a:xfrm>
                  <a:off x="3737160" y="6041520"/>
                  <a:ext cx="497160" cy="33588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22"/>
                <p:cNvSpPr/>
                <p:nvPr/>
              </p:nvSpPr>
              <p:spPr>
                <a:xfrm>
                  <a:off x="3678480" y="6283080"/>
                  <a:ext cx="140040" cy="40572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23"/>
                <p:cNvSpPr/>
                <p:nvPr/>
              </p:nvSpPr>
              <p:spPr>
                <a:xfrm>
                  <a:off x="3793320" y="6288480"/>
                  <a:ext cx="234360" cy="352800"/>
                </a:xfrm>
                <a:prstGeom prst="pie">
                  <a:avLst/>
                </a:prstGeom>
                <a:solidFill>
                  <a:srgbClr val="cc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24"/>
              <p:cNvGrpSpPr/>
              <p:nvPr/>
            </p:nvGrpSpPr>
            <p:grpSpPr>
              <a:xfrm>
                <a:off x="4158000" y="5661720"/>
                <a:ext cx="1128240" cy="877320"/>
                <a:chOff x="4158000" y="5661720"/>
                <a:chExt cx="1128240" cy="877320"/>
              </a:xfrm>
            </p:grpSpPr>
            <p:sp>
              <p:nvSpPr>
                <p:cNvPr id="98" name="Freeform 25"/>
                <p:cNvSpPr/>
                <p:nvPr/>
              </p:nvSpPr>
              <p:spPr>
                <a:xfrm>
                  <a:off x="4166640" y="5670000"/>
                  <a:ext cx="1107720" cy="857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cc66"/>
                    </a:gs>
                    <a:gs pos="50000">
                      <a:srgbClr val="99cc00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" name="Group 26"/>
                <p:cNvGrpSpPr/>
                <p:nvPr/>
              </p:nvGrpSpPr>
              <p:grpSpPr>
                <a:xfrm>
                  <a:off x="4158000" y="5661720"/>
                  <a:ext cx="1128240" cy="877320"/>
                  <a:chOff x="4158000" y="5661720"/>
                  <a:chExt cx="1128240" cy="877320"/>
                </a:xfrm>
              </p:grpSpPr>
              <p:sp>
                <p:nvSpPr>
                  <p:cNvPr id="100" name="Freeform 27"/>
                  <p:cNvSpPr/>
                  <p:nvPr/>
                </p:nvSpPr>
                <p:spPr>
                  <a:xfrm>
                    <a:off x="4158000" y="6221520"/>
                    <a:ext cx="1078560" cy="3175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28"/>
                  <p:cNvSpPr/>
                  <p:nvPr/>
                </p:nvSpPr>
                <p:spPr>
                  <a:xfrm>
                    <a:off x="4209120" y="5661720"/>
                    <a:ext cx="1077120" cy="8719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29"/>
                  <p:cNvSpPr/>
                  <p:nvPr/>
                </p:nvSpPr>
                <p:spPr>
                  <a:xfrm>
                    <a:off x="4200120" y="5785200"/>
                    <a:ext cx="56880" cy="4755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3" name="Text Box 30"/>
            <p:cNvSpPr/>
            <p:nvPr/>
          </p:nvSpPr>
          <p:spPr>
            <a:xfrm>
              <a:off x="4210560" y="5786640"/>
              <a:ext cx="107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9999"/>
                  </a:solidFill>
                  <a:uFillTx/>
                  <a:latin typeface="Times New Roman"/>
                  <a:hlinkClick r:id="rId3" action="ppaction://hlinksldjump"/>
                </a:rPr>
                <a:t>СОД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9999"/>
                  </a:solidFill>
                  <a:uFillTx/>
                  <a:latin typeface="Times New Roman"/>
                  <a:hlinkClick r:id="rId4" action="ppaction://hlinksldjump"/>
                </a:rPr>
                <a:t>Ж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Управляющая кнопка: домой 22">
            <a:hlinkClick r:id="rId5" action="ppaction://hlinksldjump"/>
          </p:cNvPr>
          <p:cNvSpPr/>
          <p:nvPr/>
        </p:nvSpPr>
        <p:spPr>
          <a:xfrm>
            <a:off x="214200" y="62150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12594" y="3837"/>
                </a:moveTo>
                <a:lnTo>
                  <a:pt x="15170" y="6448"/>
                </a:ln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lnTo>
                  <a:pt x="19557" y="10800"/>
                </a:lnTo>
                <a:lnTo>
                  <a:pt x="17903" y="10800"/>
                </a:lnTo>
                <a:lnTo>
                  <a:pt x="17903" y="17989"/>
                </a:lnTo>
                <a:lnTo>
                  <a:pt x="7285" y="17989"/>
                </a:lnTo>
                <a:lnTo>
                  <a:pt x="7285" y="10800"/>
                </a:lnTo>
                <a:lnTo>
                  <a:pt x="5631" y="10800"/>
                </a:lnTo>
                <a:close/>
              </a:path>
              <a:path fill="darkenLess" w="25188" h="21600">
                <a:moveTo>
                  <a:pt x="15170" y="6448"/>
                </a:move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close/>
              </a:path>
              <a:path fill="darkenLess" w="25188" h="21600">
                <a:moveTo>
                  <a:pt x="11671" y="14299"/>
                </a:moveTo>
                <a:lnTo>
                  <a:pt x="13517" y="14299"/>
                </a:lnTo>
                <a:lnTo>
                  <a:pt x="13517" y="17989"/>
                </a:lnTo>
                <a:lnTo>
                  <a:pt x="17903" y="17989"/>
                </a:lnTo>
                <a:lnTo>
                  <a:pt x="17903" y="10800"/>
                </a:lnTo>
                <a:lnTo>
                  <a:pt x="7285" y="10800"/>
                </a:lnTo>
                <a:lnTo>
                  <a:pt x="7285" y="17989"/>
                </a:lnTo>
                <a:lnTo>
                  <a:pt x="11671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Germain.jpeg">
            <a:hlinkClick r:id="rId1"/>
          </p:cNvPr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867280" y="1700280"/>
            <a:ext cx="3081600" cy="3743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324000" y="1413000"/>
            <a:ext cx="5329080" cy="4757400"/>
          </a:xfrm>
          <a:prstGeom prst="rect">
            <a:avLst/>
          </a:prstGeom>
          <a:gradFill rotWithShape="0">
            <a:gsLst>
              <a:gs pos="0">
                <a:srgbClr val="9900ff">
                  <a:alpha val="44313"/>
                </a:srgbClr>
              </a:gs>
              <a:gs pos="100000">
                <a:srgbClr val="ff00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Францужен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офи Жермен с детства увлекалась математикой. Из-за запретов родителей Софи занималась математикой тайком. Однажды Жермен написала письмо от мужского имени королю математиков К. Ф. Гауссу с просьбой разъяснить некоторые вопросы. Гаусс по достоинству оценил своего талантливого инкогнито. Завязалась переписка. В 1807 г. Софи просила французского генерала, командовавшего оккупационными войсками, пощадить жизнь Гаусса. Глубоко тронутый происшедшим Гаусс до конца жизни сохранил глубокое уважение и дружбу к Софи Жермен. В 1816 г. Софи Жермен была присуждена премия Парижской академии наук. Математические работы Жермен относятся к геометрии и теории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1692360" y="404640"/>
            <a:ext cx="5743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фи Жермен (1776-1831)</a:t>
            </a:r>
            <a:endParaRPr b="1" i="1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i?id=64727032&amp;tov=6"/>
          <p:cNvPicPr/>
          <p:nvPr/>
        </p:nvPicPr>
        <p:blipFill>
          <a:blip r:embed="rId1"/>
          <a:stretch/>
        </p:blipFill>
        <p:spPr>
          <a:xfrm>
            <a:off x="6802560" y="907920"/>
            <a:ext cx="2360520" cy="3041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0"/>
          <p:cNvSpPr/>
          <p:nvPr/>
        </p:nvSpPr>
        <p:spPr>
          <a:xfrm>
            <a:off x="2627280" y="5733360"/>
            <a:ext cx="5761080" cy="642600"/>
          </a:xfrm>
          <a:prstGeom prst="rect">
            <a:avLst/>
          </a:prstGeom>
          <a:gradFill rotWithShape="0">
            <a:gsLst>
              <a:gs pos="0">
                <a:srgbClr val="9900ff">
                  <a:alpha val="44313"/>
                </a:srgbClr>
              </a:gs>
              <a:gs pos="100000">
                <a:srgbClr val="ff00ff">
                  <a:alpha val="6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Может ли число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4+4 быть простым, если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— целое и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&gt;1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250920" y="334800"/>
            <a:ext cx="6553080" cy="4483080"/>
          </a:xfrm>
          <a:prstGeom prst="rect">
            <a:avLst/>
          </a:prstGeom>
          <a:gradFill rotWithShape="0">
            <a:gsLst>
              <a:gs pos="0">
                <a:srgbClr val="9900ff">
                  <a:alpha val="43137"/>
                </a:srgbClr>
              </a:gs>
              <a:gs pos="100000">
                <a:srgbClr val="ff00ff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 своём первом письме Гауссу Жермен обсуждает уравнение Фе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x^n + y^n = z^n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, где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— целые числа. Пьер Ферма полагал, что мог доказать, что уравнение не имеет решения дл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больших 2. Это предположение, известное как последняя теорема Ферма, было доказано в 1995 го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Жермен открыла, что уравнение Ферма не имеет решения, когда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равно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–1, где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— простое число вида 8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+7. (Например, если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равно 2, то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— простое число, а именно 23, и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равно 22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Жермен доказала, что если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— целые числа и 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^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5 +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^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5 =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^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5, то либо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, либо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, либо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должны делиться на 5. Теорема Жермен явилась важным шагом на пути к доказательству последней теоремы Ферма для случая, когда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=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13"/>
          <p:cNvSpPr txBox="1"/>
          <p:nvPr/>
        </p:nvSpPr>
        <p:spPr>
          <a:xfrm>
            <a:off x="539640" y="4869000"/>
            <a:ext cx="432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Софи Жермен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32:06Z</dcterms:created>
  <dc:creator>Леонтьева </dc:creator>
  <dc:description/>
  <dc:language>en-US</dc:language>
  <cp:lastModifiedBy>Admin</cp:lastModifiedBy>
  <dcterms:modified xsi:type="dcterms:W3CDTF">2010-01-27T17:30:20Z</dcterms:modified>
  <cp:revision>46</cp:revision>
  <dc:subject/>
  <dc:title>Слайд 1</dc:title>
</cp:coreProperties>
</file>